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1EEA-4CD8-4447-B500-56A5B261D717}" type="datetime">
              <a:rPr b="0" lang="zh-CN" sz="1200" spc="-1" strike="noStrike">
                <a:solidFill>
                  <a:srgbClr val="000000"/>
                </a:solidFill>
                <a:latin typeface="Times New Roman"/>
                <a:ea typeface="Arial"/>
              </a:rPr>
              <a:t>26/7/29</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6CD8-70A4-4053-8EF4-02C3CF97A934}"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C86F-88FF-45FF-A1B1-BBD064A45E9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4A0819-5A28-42A9-AB87-1DD2D4846A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519D19-F731-4960-86FE-89D77A2F7A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519DB2D-903E-4CC2-88D7-AC7BF64C64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4FBEF70-6C5A-4C3E-B5D2-3A544050B3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19F52A-A761-4C4D-A082-AE5A6CCC2C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AA97DA-0367-47AC-9DBE-5A0738EBB2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BD44FB-C73F-422B-9A6B-AF068A49D0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FD9B6C-281D-443F-A8C5-9A37189257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3F3186-369F-4922-9012-5EE867178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395AC7-914C-480E-989A-C5E1268473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4DAA86-E052-437B-BF58-B1ABF2E6F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04FA69-A25B-4728-8ADA-219039DC52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32879E-0FF9-4D0B-AA56-4F47AFDD1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391C53-3ECC-4281-A417-4E6FF9DA74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E97FA6-7BDD-49C4-8A29-66F49AEC77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102483-E7C5-41EE-A21D-98C69DEFE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EED98D-BECF-48EF-BFEE-98DE878065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99BBB3-EFFC-43D8-B95F-323CD23040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6B15BF-A892-46C3-8860-DBE3D0E34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CBF2930-4DDA-449E-BF77-DD6C5964FB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9B9C3BA-5400-46E7-AFC5-FEE062593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6052EF-FE12-4F53-9EEB-52169EF735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75660E-DF61-416C-A57C-DEE313BB8E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66B92C-0BE7-4946-80BA-0C690412EF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674D-318A-45B4-9E9B-1E4B15FE15D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A780-2FC7-4ED2-9A54-DBD472A636BD}"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